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4.gif" ContentType="image/gif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1135-EECD-42A7-8CD2-08BF7644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686-0458-42A9-8CE8-2823D696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BD1-D560-4A5A-9530-89BE2DA7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B73-AC84-45E8-A7DE-D1A8510E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A89-EC60-4C58-8F5C-643AC4CB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F5DB-A565-468D-92CE-114A8DBF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9CB-744E-4983-A264-4803E9BF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32E6-497E-44D0-A84B-F5C042A7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36D-A4BD-4331-BD7D-4A09B73F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944D-8E2A-47E6-8EB4-CFC6E3D6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EE7-B692-4862-8EBB-B6990CBD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9CBB-372D-454E-99D3-C40D5A82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0D1E-1720-4E5A-B0AA-1A593BF4385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2.png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Mjerimo električnu struj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kus: struja u paralelnom strujnom krug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Hoće li se promijeniti struja koju pokazuje ampermetar ako paralelno s tom žaruljicom spojite još jednu žaruljicu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5"/>
          <a:stretch/>
        </p:blipFill>
        <p:spPr>
          <a:xfrm>
            <a:off x="5003640" y="2637000"/>
            <a:ext cx="36086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ruja u krugu s jednom žaruljic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ruja koju daje izvor u krugu s dvije paralelno spojene žarulj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288880" y="2781360"/>
            <a:ext cx="1627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0,2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856520" y="5084640"/>
            <a:ext cx="1627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0,4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0" descr="DSC00845.JPG"/>
          <p:cNvPicPr/>
          <p:nvPr/>
        </p:nvPicPr>
        <p:blipFill>
          <a:blip r:embed="rId4"/>
          <a:srcRect l="12841" t="11397" r="27859" b="0"/>
          <a:stretch/>
        </p:blipFill>
        <p:spPr>
          <a:xfrm>
            <a:off x="5018040" y="2349360"/>
            <a:ext cx="365760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ćemo izmjeriti struju kroz žaruljice u paralelnom spoj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700360" y="2781360"/>
            <a:ext cx="33447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DSC00842.JPG"/>
          <p:cNvPicPr/>
          <p:nvPr/>
        </p:nvPicPr>
        <p:blipFill>
          <a:blip r:embed="rId2"/>
          <a:stretch/>
        </p:blipFill>
        <p:spPr>
          <a:xfrm>
            <a:off x="0" y="852480"/>
            <a:ext cx="9144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a je struja kroz žarulj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ruja žaruljicu u prvoj gran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0,2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ste li to očekival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DSC00840.JPG"/>
          <p:cNvPicPr/>
          <p:nvPr/>
        </p:nvPicPr>
        <p:blipFill>
          <a:blip r:embed="rId7"/>
          <a:srcRect l="12842" t="6838" r="12842" b="6838"/>
          <a:stretch/>
        </p:blipFill>
        <p:spPr>
          <a:xfrm>
            <a:off x="5076720" y="2565360"/>
            <a:ext cx="375120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olika je struja kroz drugu žaruljicu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Struja žaruljicu u drugoj gran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i="1" lang="hr-HR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hr-HR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= 0,2 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Zbog čega je struja jednaka onoj kroz žaruljicu u prvoj grani?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DSC00839.JPG"/>
          <p:cNvPicPr/>
          <p:nvPr/>
        </p:nvPicPr>
        <p:blipFill>
          <a:blip r:embed="rId5"/>
          <a:srcRect l="12837" t="0" r="12837" b="0"/>
          <a:stretch/>
        </p:blipFill>
        <p:spPr>
          <a:xfrm>
            <a:off x="4788000" y="2205000"/>
            <a:ext cx="396072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aralelan spoj vrijed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- struja I u glavnom vodu jednaka je zbroju struja u pojedinim granam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I = I</a:t>
            </a:r>
            <a:r>
              <a:rPr b="0" i="1" lang="hr-HR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+ I</a:t>
            </a:r>
            <a:r>
              <a:rPr b="0" i="1" lang="hr-HR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iključivanjem novih trošila u paralelnim granama povećava se struja u glavnom vo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- isključivanje jednog trošila ne utječe na rad drugih troši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Kratki spoj u strujnome krug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strujni krug s osigurač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vijetli li žarulj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Što će se dogoditi zatvor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o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li sklopku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Hoće li žaruljica i dalje svijetlit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0"/>
          <a:stretch/>
        </p:blipFill>
        <p:spPr>
          <a:xfrm>
            <a:off x="4859280" y="2421000"/>
            <a:ext cx="368316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Kratki spoj čini i svaka grana u strujnom krugu u kojoj nema trošila jer kroz nju prođe vrlo velika stru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SnapShot(602).jpg"/>
          <p:cNvPicPr/>
          <p:nvPr/>
        </p:nvPicPr>
        <p:blipFill>
          <a:blip r:embed="rId4"/>
          <a:srcRect l="17717" t="0" r="17717" b="0"/>
          <a:stretch/>
        </p:blipFill>
        <p:spPr>
          <a:xfrm>
            <a:off x="4788000" y="1773360"/>
            <a:ext cx="4132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Možemo li se zaštititi od neželjenih posljedica kratkog spoj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Od opasnosti i štete koja može nastati kratkim spojem na električnoj instalaciji, razna trošila i uređaje štite </a:t>
            </a:r>
            <a:r>
              <a:rPr b="1" lang="vi-VN" sz="3000" spc="-1" strike="noStrike">
                <a:solidFill>
                  <a:srgbClr val="000000"/>
                </a:solidFill>
                <a:latin typeface="Calibri"/>
              </a:rPr>
              <a:t>osigurač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lektričnu struju mjeri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ampermetrom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mpermetar se uključuje tako da kroz njega prolazi struja koju treba mjeriti, a to znači da se s trošilom spaj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erijs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4"/>
          <a:stretch/>
        </p:blipFill>
        <p:spPr>
          <a:xfrm>
            <a:off x="2340000" y="3645000"/>
            <a:ext cx="3467160" cy="26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Ampermetar se ne smije spajati u strujni krug bez troši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zitivni priključak mjernog instrumenta spaja se prema + polu električnog izvora, njegov negativan priključak ide prema − polu električnog izvo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Ovisi li struja o načinu spajanja trošila u strujnome krug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349000"/>
            <a:ext cx="4906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struja u serijskom spoju žarulj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ruja u krugu s jednom žaruljico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0,2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napShot(305).jpg"/>
          <p:cNvPicPr/>
          <p:nvPr/>
        </p:nvPicPr>
        <p:blipFill>
          <a:blip r:embed="rId8"/>
          <a:srcRect l="23622" t="4199" r="23622" b="0"/>
          <a:stretch/>
        </p:blipFill>
        <p:spPr>
          <a:xfrm>
            <a:off x="5435640" y="2349360"/>
            <a:ext cx="33764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ruja u krugu s dvije žarulj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0,16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objašnjavate izmjerenu struj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SnapShot(585).jpg"/>
          <p:cNvPicPr/>
          <p:nvPr/>
        </p:nvPicPr>
        <p:blipFill>
          <a:blip r:embed="rId6"/>
          <a:srcRect l="36026" t="0" r="28543" b="34996"/>
          <a:stretch/>
        </p:blipFill>
        <p:spPr>
          <a:xfrm>
            <a:off x="5238720" y="2492280"/>
            <a:ext cx="32385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ruja u krugu s tri žarulj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0,13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što je truja još slabij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SnapShot(307).jpg"/>
          <p:cNvPicPr/>
          <p:nvPr/>
        </p:nvPicPr>
        <p:blipFill>
          <a:blip r:embed="rId8"/>
          <a:srcRect l="31102" t="0" r="32089" b="31146"/>
          <a:stretch/>
        </p:blipFill>
        <p:spPr>
          <a:xfrm>
            <a:off x="5176800" y="1989000"/>
            <a:ext cx="3232080" cy="33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u bi struju pokazivali ampermetri u kruga  na slic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42404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SnapShot(594).jpg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0" y="11253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Ampermetar priključen na bilo kojemu mjestu u strujnom krugu pokazuje jednaku struju (</a:t>
            </a:r>
            <a:r>
              <a:rPr b="0" i="1" lang="pl-PL" sz="3000" spc="-1" strike="noStrike">
                <a:solidFill>
                  <a:srgbClr val="000000"/>
                </a:solidFill>
                <a:latin typeface="Calibri"/>
              </a:rPr>
              <a:t>I = I</a:t>
            </a:r>
            <a:r>
              <a:rPr b="0" i="1" lang="pl-PL" sz="3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pl-PL" sz="3000" spc="-1" strike="noStrike">
                <a:solidFill>
                  <a:srgbClr val="000000"/>
                </a:solidFill>
                <a:latin typeface="Calibri"/>
              </a:rPr>
              <a:t> = I</a:t>
            </a:r>
            <a:r>
              <a:rPr b="0" i="1" lang="pl-PL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pl-PL" sz="3000" spc="-1" strike="noStrike">
                <a:solidFill>
                  <a:srgbClr val="000000"/>
                </a:solidFill>
                <a:latin typeface="Calibri"/>
              </a:rPr>
              <a:t> = I</a:t>
            </a:r>
            <a:r>
              <a:rPr b="0" i="1" lang="pl-PL" sz="3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pl-P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Za serijski spoj vrijedi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  –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struja je jednaka u svim dijelovima strujnog krug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  –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što je više žaruljica u spoju, struja je man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  –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isključimo li jednu žaruljicu, nijedna žaruljica ne svijetl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8:54:58Z</dcterms:created>
  <dc:creator>Zdenka</dc:creator>
  <dc:description/>
  <dc:language>en-US</dc:language>
  <cp:lastModifiedBy>Zdenko</cp:lastModifiedBy>
  <dcterms:modified xsi:type="dcterms:W3CDTF">2014-07-18T09:23:07Z</dcterms:modified>
  <cp:revision>36</cp:revision>
  <dc:subject/>
  <dc:title>Mjerenje električne struje</dc:title>
</cp:coreProperties>
</file>